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png" ContentType="image/png"/>
  <Override PartName="/ppt/media/image7.gif" ContentType="image/gif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CBDA-24BB-4680-9290-DE1C3AE9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518D-266D-4B94-AB4F-DD8E5541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6451-863C-4308-A445-F1518B96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9AA-D574-4CEB-A707-BDBAE5E9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9F04-10DC-4DBC-BBAA-DBAD1496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F750-658C-4439-A577-8B7D1BAF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BF1E-CAF4-4C92-A1C4-DBB1D465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B48F-B9EE-458B-BA94-E10C1E05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AE2D-07F4-4A57-9DE9-DC4FEC0A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9524-32B4-40FC-B59B-6145EB87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4A6B-A071-4A18-8290-5254EE2A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494A-926E-4348-AED3-68CD8BA1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FB4A-15C9-43D1-A37A-C4D759FB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3DE6-7D3E-4A79-B0C2-EFD961B6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8676-26B5-4227-B908-8D76D7B7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346F-D875-44A8-9C08-853EF236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75A7-62D8-4CE5-B870-48E5C9F8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D7AE-B034-4D16-A989-6DE58537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12C2-4824-4A95-AAD6-6EE302AE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C79A-E112-4A97-AB85-5CAE79B6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2CD6-5A9C-46DE-A115-41F34BC2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010E-3913-4460-83B0-24628A9E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8459-C5F0-42CB-B107-F631065A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32A-031D-4D9C-BF32-383E736B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CE4E-8764-4E6F-B158-43417EDB6EE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A31B-4F55-4C7E-957C-8A8E0423B51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67960" y="10764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华文行楷"/>
              </a:rPr>
              <a:t>尊敬的各位家长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666880"/>
            <a:ext cx="901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欢迎您的到来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559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27760" y="5506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479736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                                 </a:t>
            </a: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初 二 </a:t>
            </a: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(2) </a:t>
            </a: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84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3880" y="83808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师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2514600"/>
            <a:ext cx="5257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主任：罗小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学：付施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语文：罗小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英语：冯 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科学：王建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838080"/>
            <a:ext cx="752796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本学期班级工作设想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抓学风，促班风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家一起努力形成良好的学习氛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打造一流的班干部建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的学习习惯：写字、作业、自习、复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大对后进生的关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066680"/>
            <a:ext cx="91440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切联系家长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校与家长相互沟通，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生的学习，生活情况。做到有问题及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尽量为学生创造一个良好的竞争的学习环境，劳逸结合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让学生把压力转变成动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愉快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28800" y="2743200"/>
            <a:ext cx="46483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班级成绩汇报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916360" y="11937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优秀学生的名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627280" y="333360"/>
            <a:ext cx="41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期中成绩分析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42181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1773360"/>
            <a:ext cx="66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陈茂行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郑超群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徐双双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鲍迪红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徐旭丹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鲍芳波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余慕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韩雨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蒋露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蒋碧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990720"/>
            <a:ext cx="67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期中成绩显著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新魏"/>
              </a:rPr>
              <a:t>进步学生名单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新魏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1905120"/>
            <a:ext cx="51818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陈苗科         马立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徐旭东         鲍松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鲍   杰          方   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孙   坚          徐成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475000" y="685800"/>
            <a:ext cx="41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月考成绩显著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新魏"/>
              </a:rPr>
              <a:t>进步学生名单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新魏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86000"/>
            <a:ext cx="8763120" cy="11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鲍李科     鲍松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徐倩        鲍迪红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蒋露        鲍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孙   坚          徐成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358920"/>
            <a:ext cx="9632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由本次考试成绩可以看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对来说，我班学生文科成绩较差，其中英语成绩较差。尤其是男同学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同学及格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，主要原因是：学习态度极不端正，希望家长多加督促。女同学进入初二，由于科学增加了难度，因而感到很吃力。家长们务必想出合适的办法解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就总分和总排名来说，女同学的成绩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男同学要好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偏科现象严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219640" y="4538520"/>
            <a:ext cx="2392560" cy="19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00200" y="76212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生心理特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黑体"/>
                <a:ea typeface="黑体"/>
              </a:rPr>
              <a:t>父母</a:t>
            </a:r>
            <a:r>
              <a:rPr b="1" lang="zh-CN" sz="6000" spc="-1" strike="noStrike">
                <a:solidFill>
                  <a:srgbClr val="cc3300"/>
                </a:solidFill>
                <a:latin typeface="黑体"/>
                <a:ea typeface="黑体"/>
              </a:rPr>
              <a:t>,</a:t>
            </a:r>
            <a:r>
              <a:rPr b="1" lang="zh-CN" sz="6000" spc="-1" strike="noStrike">
                <a:solidFill>
                  <a:srgbClr val="cc3300"/>
                </a:solidFill>
                <a:latin typeface="黑体"/>
                <a:ea typeface="黑体"/>
              </a:rPr>
              <a:t>孩子心灵的雕塑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914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家庭是以夫妻关系和血缘关系为纽带组织起来的社会细胞。家庭是孩子成长的摇篮，父母则是孩子无可选择的第一任教师。加强未成年思想道德建设，学校是主阵地，社区是主要的依托和平台，家庭是基础。家庭的教育至关重要，因为千家万户孩子的健康成长都离不开父母正确的教育方式。孩子的成长，折射出许多家庭的成功与失败。许多学生的心声：希望自己的父母能够爱我们，理解我们，希望家庭教育氛围宽松，不要给我们太多的压力。由此看来，家庭的教育至关重要，父母不要把所有的希望都寄托在学校，不要以为自己想方设法让孩子进了名校就如同进了“保险箱”，可以万事大吉了。父母，你就是孩子心灵的雕塑师，你的关爱，理解和支持是孩子成长路上最珍贵的礼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28800" y="2743200"/>
            <a:ext cx="41911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班级简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76520" y="2286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现在已步入一个平稳的发展时期，没有了刚开学时中学生活的新奇和暂时压力，也没有初三面临毕业升学，择业的两难选择的压力，处于一个相对平稳的时期，这一时期是潜心努力学习的时期，也是一个产生剧烈变化的时期，更是一个危险的时期，也是一个爬坡的时期，是一个分水岭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2-1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岁年龄段上，教育学和心理学把这一阶段称为“少年期”这段时间上，心理和生理变化比较迅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身心各方面都比较矛盾。父母要高度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重视对这一关键期和危险期的监护和把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这一时期他们精力充沛，好奇心强，任何事总想试一试，但他们的愿望与自己的实际能力是有很大的矛盾的，他们的独立性增强了，总想摆脱对老师和家长的信赖，总认为自己不是孩子了。有事不愿和父母及师长交流，处于一种半封闭状态，和同龄人诉说又冒着曝光的危险，所以他们感觉没有朋友没有人可以理解他们，特别是处于青春期的女生这种会更加强烈。他们的情感很脆弱，最容易冲动，做事也很莽撞，后果意识能力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95280" y="7873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这一时期的另一显著特点是生理发育的逐步成熟，他们一方面为自己身体各部分的发育感到新奇，另一方面又充满羞涩和不安，不愿让父母进自己的房间了，有自己的秘密了。心理上的表现是容易兴奋和冲动，神经敏感，产生了爱情的萌芽，大多数早恋的孩子是发生在这一时期，在这一时期，作为家长要高度重视，决不能有不良的刺激对孩子产生影响，要注意从家庭生活到电影，电视节目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定要有适度的选择。冲动是他们这个时期的最大特征，好奇是他们一生中的高峰。他们虽达不到辨析是非的能力，但很自信，自我抑制能力在这段时间最低。所以父母一定要加强教育和引导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371600" y="266688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6699ff"/>
                </a:solidFill>
                <a:latin typeface="华文行楷"/>
                <a:ea typeface="华文行楷"/>
              </a:rPr>
              <a:t>几点建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f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09480" y="274320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尽量表扬孩子，孩子具有一定的自信心，才会肯去学习要使孩子每天都感觉到他在学习上取得了一定进步，哪怕是改正一个缺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773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708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1295280"/>
            <a:ext cx="72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 创造和睦、祥和、稳定的家庭气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63165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16160" y="304920"/>
            <a:ext cx="475272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谈谈家庭教育的必要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18440" y="380880"/>
            <a:ext cx="4752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多关心孩子的学习内容和实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进步程度，家长要多询问孩子最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习了什么掌握得如何等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32120" y="3208320"/>
            <a:ext cx="5057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经常给孩子制订几个容易达到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目标，这样可以使孩子感觉到能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做到，树立孩子自信心，从而有利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孩子发挥出潜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771920" y="457200"/>
            <a:ext cx="5817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 订下家庭学习规矩，并且自始至终执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形成良好的学习习惯，作息习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79760" y="2286000"/>
            <a:ext cx="5543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 要有恰当的教育方法，对待孩子要有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心，不能经常打骂。那样只会激起孩子的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触心理，事与愿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70760" y="4876920"/>
            <a:ext cx="110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7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家长要以身作则，给孩子做出榜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条件应给孩子充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553080" y="5529240"/>
            <a:ext cx="152424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320040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经常联系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203480" y="266688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-13842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教师简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81080" y="1293840"/>
            <a:ext cx="8136000" cy="56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主任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: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罗小炎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20084232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英语：冯霞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20584231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学：付施君（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056745078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科学：王建超（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056847739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社会：邵煌辉（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20584231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美术：张融融（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175939376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音乐：扬小芳（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58676832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育：陈安江（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205842306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思品：叶    青（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205842308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057400" y="533520"/>
            <a:ext cx="426708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874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教师电话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1763640" y="1052640"/>
            <a:ext cx="489600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00ff"/>
                </a:solidFill>
                <a:uFillTx/>
                <a:latin typeface="Tahoma"/>
                <a:ea typeface="华文新魏"/>
              </a:rPr>
              <a:t>我     班     班   委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2498760" y="1143000"/>
            <a:ext cx="444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班　长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郑  超  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副班长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徐  双  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团支书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郑  超  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学习委员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陈 茂 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纪律委员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徐 方 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宣传委员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徐 旭 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生活委员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鲍 迪 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劳动委员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鲍 江 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文娱委员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徐 雪 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体育委员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陈 苗 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568332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宋体"/>
                <a:ea typeface="BatangChe"/>
              </a:rPr>
              <a:t>语文课</a:t>
            </a:r>
            <a:r>
              <a:rPr b="0" lang="zh-CN" sz="4800" spc="-1" strike="noStrike">
                <a:solidFill>
                  <a:srgbClr val="000000"/>
                </a:solidFill>
                <a:latin typeface="华文宋体"/>
                <a:ea typeface="BatangChe"/>
              </a:rPr>
              <a:t>代表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BatangChe"/>
              </a:rPr>
              <a:t>: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BatangChe"/>
              </a:rPr>
              <a:t>徐双双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BatangChe"/>
              </a:rPr>
              <a:t>数学课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BatangChe"/>
              </a:rPr>
              <a:t>代表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BatangChe"/>
              </a:rPr>
              <a:t>: 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BatangChe"/>
              </a:rPr>
              <a:t>陈茂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BatangChe"/>
              </a:rPr>
              <a:t>科学课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BatangChe"/>
              </a:rPr>
              <a:t>代表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BatangChe"/>
              </a:rPr>
              <a:t>: 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BatangChe"/>
              </a:rPr>
              <a:t>马立冬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BatangChe"/>
              </a:rPr>
              <a:t>英语课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BatangChe"/>
              </a:rPr>
              <a:t>代表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BatangChe"/>
              </a:rPr>
              <a:t>: 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BatangChe"/>
              </a:rPr>
              <a:t>徐方圆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BatangChe"/>
              </a:rPr>
              <a:t>社会课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BatangChe"/>
              </a:rPr>
              <a:t>代表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BatangChe"/>
              </a:rPr>
              <a:t>: 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BatangChe"/>
              </a:rPr>
              <a:t>袁文伟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BatangChe"/>
              </a:rPr>
              <a:t>政治课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BatangChe"/>
              </a:rPr>
              <a:t>代表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BatangChe"/>
              </a:rPr>
              <a:t>: 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BatangChe"/>
              </a:rPr>
              <a:t>蒋   露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6781680" y="48769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1447920"/>
            <a:ext cx="419076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878280"/>
            <a:ext cx="3276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23600" y="973080"/>
            <a:ext cx="136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课代表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95280" y="9907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1337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95200" y="762120"/>
            <a:ext cx="22532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班级管理员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电脑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----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余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早自修纪律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值日班长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星期一：郑超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星期二：徐双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星期三：徐方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星期四：余 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星期五：陈苗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00720" y="4311720"/>
            <a:ext cx="4643280" cy="25462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ahoma"/>
                <a:ea typeface="华文新魏"/>
              </a:rPr>
              <a:t>我班上学期取得的成绩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514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150920" y="1709640"/>
            <a:ext cx="7885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、第六届艺术节评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鲍芳波：校十佳小歌唱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郑超群：校十佳小演讲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徐达成：校十佳小书法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马林烽：校十佳小画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徐达成：校十佳小画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14400" y="1219320"/>
            <a:ext cx="7575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校征文比赛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三等奖：郑超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197080" y="549360"/>
            <a:ext cx="44827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校电脑手抄报比赛获奖者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等奖： 徐双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75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11280" y="266760"/>
            <a:ext cx="4859280" cy="52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校  优  干：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陈茂行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校三好生：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郑超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徐双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徐旭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鲍迪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                    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10:43:4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15:32Z</dcterms:modified>
  <cp:revision>166</cp:revision>
  <dc:subject>主题班会课件(分28大类): http://shop62905894.taobao.com</dc:subject>
  <dc:title>主题班会课件(分28大类): http://shop62905894.taobao.com</dc:title>
</cp:coreProperties>
</file>